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10.wmf" ContentType="image/x-wmf"/>
  <Override PartName="/ppt/media/image4.jpeg" ContentType="image/jpeg"/>
  <Override PartName="/ppt/media/image13.wmf" ContentType="image/x-wmf"/>
  <Override PartName="/ppt/media/image28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6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27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25.wmf" ContentType="image/x-wmf"/>
  <Override PartName="/ppt/media/image2.jpeg" ContentType="image/jpeg"/>
  <Override PartName="/ppt/media/image3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</p:sldIdLst>
  <p:sldSz cx="9907588" cy="6858000"/>
  <p:notesSz cx="66706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0" y="0"/>
            <a:ext cx="66708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dt" idx="46"/>
          </p:nvPr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sldImg"/>
          </p:nvPr>
        </p:nvSpPr>
        <p:spPr>
          <a:xfrm>
            <a:off x="663120" y="740880"/>
            <a:ext cx="534060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body"/>
          </p:nvPr>
        </p:nvSpPr>
        <p:spPr>
          <a:xfrm>
            <a:off x="666360" y="4684680"/>
            <a:ext cx="5335560" cy="444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ftr" idx="47"/>
          </p:nvPr>
        </p:nvSpPr>
        <p:spPr>
          <a:xfrm>
            <a:off x="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marL="216000"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omponent Regional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 type="sldNum" idx="48"/>
          </p:nvPr>
        </p:nvSpPr>
        <p:spPr>
          <a:xfrm>
            <a:off x="377820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AE625E2A-51CA-4DD0-8D1A-6C86F8E5389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663480" y="741240"/>
            <a:ext cx="5340600" cy="369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66360" y="4684680"/>
            <a:ext cx="5335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Symbol zastępczy numeru slajdu 3"/>
          <p:cNvSpPr/>
          <p:nvPr/>
        </p:nvSpPr>
        <p:spPr>
          <a:xfrm>
            <a:off x="377820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D9615CE2-3849-4299-8962-78CA7ADB780E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663480" y="741240"/>
            <a:ext cx="5340600" cy="369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66360" y="4684680"/>
            <a:ext cx="5335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Symbol zastępczy numeru slajdu 3"/>
          <p:cNvSpPr/>
          <p:nvPr/>
        </p:nvSpPr>
        <p:spPr>
          <a:xfrm>
            <a:off x="377820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2CC257DA-91DC-4B5B-9DB3-7C5083605AC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E8489-5BE1-4F46-AAA6-444FB5D7F3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3122A-9C26-4301-A7D6-1B3EA5F1B0A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76889-4164-4B51-AF66-5164A332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409F0-DDF6-4328-9FF7-0AD7CB94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F0102-B688-42A6-A0A2-DDCF8ABC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C660F-8A37-4B98-8283-B5088527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59DC9-59D4-4C1B-B56E-D1233BFB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F62FF-1060-4B9F-8C75-80A53F76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DB102-8430-494E-A874-B62A2141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E48D5-454B-4A1B-BC30-A9989F9B7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D8860-6E64-45B4-B931-C1F65043B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3172E-1089-4C9D-86E3-9D0C0FA07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AE6C3-FD9C-463F-B5EE-A33FE3E895F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57350-0DC6-4464-B433-852947DC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3F519-5BFD-4FA4-9047-DE211E58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9C656-7801-47A0-A9E0-4D80FFE5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A3DBB-8D32-4578-8990-011E5126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173E5-334A-4A88-8E55-AD614C6D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3735C-4EC3-4539-AE45-A9289599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D1BFB-1894-4622-9E4A-3F7E12E7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5B306-94C5-4733-B857-D43A3975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4127F-0635-4367-893D-A7FADFB9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282C3-DB2D-4A80-9EBB-D8EC6AADA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61924-6B13-4921-91F6-BBED53979CE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38E77-2AC7-4FEB-A160-05FDF6C4D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9732A-197E-4231-AE40-30EB6F148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8C58F-F927-40C2-A2D8-5C2F5899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C974D-6F88-4F6A-8F46-2B6DE356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79835-0427-46B1-9042-05FD61C7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5F9C5-3917-456A-BF12-540E5328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BC905-6A72-4917-A86B-91032086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9B805-C494-4161-953D-AE1C826A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B0FEE-D398-4759-BE2B-C4709F80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CC17D-EA70-4B66-A953-3B6F31EB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0328B-0557-46E6-A8C1-D2FE0147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D0E06-6F96-4388-848C-18F82D188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CC772-E63B-40E5-A1C7-D959CE3A5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9B25A8-18CD-49F4-BFDE-DCCA23BDC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33EEF9-51F3-4765-986B-304AA00C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7A9CD-CE8B-4929-AE57-0059DACE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075DEE-A259-422B-A8D3-EBEF861C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149AC-7940-4AB9-B40D-50DE9AD4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5D1727-2DD0-4750-9CD2-FD428957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262FB1-6069-464B-90F9-D810E3E0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8143C9-5EC9-44F6-886B-BE6E1F8B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0D4C8-A98D-4AF4-AA97-D33ACF95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0846B5-057F-4854-BE0D-68047D19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24D8E2-14E2-45DF-9F49-5B0538E90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D6283F-A5F0-4B2B-940B-DE799DE89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672BF3-71A7-46E0-A634-C506391EA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CCC152-A8C4-49E0-80FF-15C13E47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09640D-660A-4C00-BDC9-29D7450D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7280F0-5E5B-4BDB-B32F-116ACEB5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9180E2-693E-4D31-8EC9-B18416FD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CC45F0-78A7-4BFE-A77D-62CB595F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F3738D-9F35-4DBF-A872-49D30F02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AA5665-77C3-4AD9-A020-459C7B62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86DD12-56C2-4A03-89A2-92F03385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3B7C32-A8F4-47CF-B035-6936653C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9FC5FF-9703-42CD-8C06-0030E83EA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7E0F04-DBE2-49E6-B775-42617C551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A395EC-A24B-4575-9140-A99B3ADF2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5FDE50-02CF-4258-8022-2D18CCA9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5164B-C9B3-44F4-8BF9-FD29807F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3019A5-621E-43AD-A6B0-E28645EE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F57921-3733-4041-9BA8-328F285A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D44A79-5562-41E7-B846-B39947BE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4D9C7-3CAD-46DA-B156-0827E742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52A50C-EA34-49FA-8CF7-D6F5F647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9157E-8039-486A-9BDA-A14C11CC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B6AD81-E9B2-4933-A2C5-E8B90D8A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FD258-D3C6-4EE4-9D04-B18BF15D0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D1B817-7C70-49EB-B1F4-C4DAFB27F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59C019-B442-4E4B-98F5-01F8A2EBB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E38B50-C649-49F2-8618-F4D84CAB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A03DA7-4B22-4197-8078-6A214C08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125406-21F5-49EF-A5B3-06BCCF14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C062D7-B063-4A2B-BD10-DAAEE379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156510-6FA4-4F0E-9805-9234D251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FD30C0-E4D5-49C3-8BDB-7244C489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1239D7-1D41-4544-BCD2-345C5134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0D99A5-ADA5-40A3-80C4-2B98CE9E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58CAE8-EDDB-4E88-A802-64F55E19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EBC52B-8C34-4799-99FB-045F1A455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1ECCE3-DB76-4940-8AC1-5EB95D3A6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82C4A8-0818-4C4A-94BF-0D1302DA7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FA17B0-9712-4942-B16C-2ABBE9DE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6E5032-DE3B-490B-83EF-3B83D7B8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D916E6-0875-48B3-9140-CD1A5D10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615540-09E1-40D3-8485-E4CAD3C9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37DDBB-0727-4463-9FD3-0603DA5D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06C049-E3D8-4CB6-A445-481F1A61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CD09DD-C0D7-489E-A66B-6CB94D92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183427-2253-42F5-B0F8-324585A0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8E11B1-5B85-468F-A71E-3289CCFE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1CF8A6-2558-41DB-A9B7-995FC8F3F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3D0024-20F2-4505-BF5B-AE01FFA0C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615A46-DC68-49B7-AF03-11C2AB4BE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C5FD56-011B-4338-9E9C-219FC1AD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458387-31A8-4931-9496-EB40A368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76EEFD-8E75-4F67-881A-BF1600E4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4CB869-7535-4A48-87F2-F8DE5B4D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35FF06-63E0-421A-9839-91B95A55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CFDD6F-4800-4DD5-B46C-DFAA6FC1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16E17-182B-4687-AF2B-E6B5DF90C6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7494C9-7F35-4573-9A7E-8155FC55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EB2E9A-463A-42AE-8B50-8F11D3A6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322152-E19B-46C1-BE09-312BDC35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5CC563-4C66-4982-8D1C-0F3257173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0EDD1C-1446-41D8-BCCB-6AFC8907C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59E8AB-B61F-4882-9CF5-0361E6FC2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7AFB0F-5EF2-4E6B-8F9A-535C5984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D76F0F-5EE9-4FC4-92E5-F25DC33A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1B471E-761C-4D90-A44F-6180083F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7620C8-E58D-4260-9475-F12B02F3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7FEB6E-0431-4826-8C5A-556EA18A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D7E42A-6BD3-4ED5-873A-0E0D733D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C8B054-C6C0-4557-A607-DA70B0B6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AA1CBA-1B87-4122-8A62-42A8AADB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1E06A5-A1A4-4701-8E14-52AE8A32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866A92-3CC1-4219-9906-7CFE22F01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B41F63-2929-4389-BDDC-188D12608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6DC01-4293-44B0-93DE-5F3F2562E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A7C74-D5EA-4B26-895C-FDAB5503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B9EC9C-16CA-4AB5-938E-D0A425BB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8F3C2-7740-4E99-9410-095F59C6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2F65B-F07B-490F-849F-B58026B1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328D8-0D81-4431-BEE0-973A0BFC82B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96DD2-16B1-40DC-9566-5D10AAC7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66075-4532-4F74-ABBB-0E5C802A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E4EB3-4DBE-4D1B-BC90-395467E1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81E20-889C-4864-9C08-153F55B6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F449E-3034-4F37-BD60-E9910ED0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B8917-3FB0-4DCA-83BA-1D05A34A4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C952B-9415-4003-B718-D39A78999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80DB6-0202-43A2-9C5F-15802F43F35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14A958-A0E8-4BCB-B1F0-6DCECF93B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B3BAA-16A4-43CC-8605-77F6C3A45A8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765B8D-57FF-459C-912B-81C26899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0EC557-F79F-4F7B-828C-D8D46CF5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54F259-B09F-4CD9-AA63-3B53A0E0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43DF9E-F471-4848-82B0-5D265BDAF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D06C6E-8260-45B0-8A26-25EC6F30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70DB8D-6941-4AAD-A110-3445C4C0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0CDBC8-A445-4222-8793-3780CF15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ACB662-2BCF-48A3-8018-978AD4D1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0A9006-1D4D-4097-8F1A-3DBA27C3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07E834-186C-4F71-B932-F0302A57A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96BC5-0DB9-4241-8E21-A549E3E56A5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2E1478-E3BC-4EB2-82F3-B514E42A1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E169B0-BB2C-471A-B69D-84EABC236E0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A219D8-F3A7-4DE9-B146-661C0E3CDF9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C00C5A-3154-4D7D-8B68-75330EC07FC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544AEC-A118-4069-8738-B3DC4E6E6F7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93E202-E366-43DB-8660-F6A9914AA48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2D32E6-0AD5-42DD-A10C-25FCB7CF17B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38CB5D-38FE-4E9E-904C-2B786676720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13255D-CB23-450A-AC41-742E87455E2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EB25B0-218F-4511-BADA-6936F3750C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C03BC-68DA-4020-A421-FEC74FE016E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854B8F-DCE7-421A-9880-D4D12AFA4AB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56A86C-7613-48EB-8864-4EC13FFAAB3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D6F684-2C8F-496D-8F82-02B6CEA3285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3E4F5-AAA5-4AB1-882C-E674D104DB5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974C0-6D4A-4F04-8363-9980010AD80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B0CB0-CFAC-4AD6-8D6F-66B6AAD1F15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B422D-EB51-42EE-9A85-92F1EF763A9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69E3E-C7CC-425B-9D81-CC994B501A0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4A63F-CABA-4B95-B75B-C114B9BE363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06CC3-891A-40BF-A6D1-85C6D60D6B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21724-E7AD-4B7D-B174-A8481A96CD1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615F0-9341-4E2C-ACDA-6DB7E6EEA73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9937A-4016-4932-AA11-86FF43D9B18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4AA79-54F4-40C1-991D-E3AE181CDFA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0C1D2-4B77-4095-BD7C-B53035D2237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E0B8B-717C-4340-B218-846F41DD88C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DF1FD-A457-4E63-8D1A-1F54276AC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95A84-D0F1-4042-81A1-FE51A132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FA7D7-58AC-4259-B475-1CDD9D77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68F45-7BA6-46E0-9168-47907D48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6A449-25E5-4D12-A0D1-6641CE56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709E6-F338-4C4E-89E3-1A19A80A7F1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3B9F9-325A-40A8-93C3-14B28DA8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589CE-285D-4B1A-A219-D54F5063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9F3A5-D795-4C5D-B34D-31962B13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0FE94-4639-4EAF-AC67-06B45963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F72D8-785B-4731-8A62-7BD4CA35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5D799-F4D0-4085-B7AA-309BF8807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9338C-7592-4991-AE9B-AD309DB05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9EF56-EF3F-4E46-819A-26AF76E58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D2268-57AC-4939-89BF-B8EAEACB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114D7-96A3-4EC4-9975-ABEEF865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A5B1-19F1-4260-9AD8-2BB1B1F0EFD5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ounded Rectangle 13"/>
          <p:cNvSpPr/>
          <p:nvPr/>
        </p:nvSpPr>
        <p:spPr>
          <a:xfrm>
            <a:off x="247680" y="228600"/>
            <a:ext cx="942012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14"/>
          <p:cNvSpPr/>
          <p:nvPr/>
        </p:nvSpPr>
        <p:spPr>
          <a:xfrm>
            <a:off x="6551640" y="4203720"/>
            <a:ext cx="311616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18"/>
          <p:cNvSpPr/>
          <p:nvPr/>
        </p:nvSpPr>
        <p:spPr>
          <a:xfrm>
            <a:off x="2836800" y="4075200"/>
            <a:ext cx="600732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22"/>
          <p:cNvSpPr/>
          <p:nvPr/>
        </p:nvSpPr>
        <p:spPr>
          <a:xfrm>
            <a:off x="3063960" y="4087800"/>
            <a:ext cx="59245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26"/>
          <p:cNvSpPr/>
          <p:nvPr/>
        </p:nvSpPr>
        <p:spPr>
          <a:xfrm>
            <a:off x="6076800" y="4073400"/>
            <a:ext cx="358308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10"/>
          <p:cNvSpPr/>
          <p:nvPr/>
        </p:nvSpPr>
        <p:spPr>
          <a:xfrm>
            <a:off x="228600" y="4059360"/>
            <a:ext cx="945036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19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2845-992A-492C-96DB-718648562BEB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0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1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648E-2B57-465B-ABB0-4F1381C8C6CD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449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2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34FB-5561-4B79-B428-B718D7B36D65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3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4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4401-FB4B-415D-8794-12766B502859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497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25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491D-4657-4A75-AB21-CB3BB276B57E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26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27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94F1-FBB3-4045-BE29-A045B862A6B6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545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28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05FA-75B4-495E-B3CD-DD9C2FB840BF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29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0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66A4-BEC0-4750-BC63-8AF1D06D2D98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ounded Rectangle 11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5"/>
          <p:cNvGrpSpPr/>
          <p:nvPr/>
        </p:nvGrpSpPr>
        <p:grpSpPr>
          <a:xfrm>
            <a:off x="228600" y="714240"/>
            <a:ext cx="9450360" cy="1330560"/>
            <a:chOff x="228600" y="714240"/>
            <a:chExt cx="9450360" cy="1330560"/>
          </a:xfrm>
        </p:grpSpPr>
        <p:sp>
          <p:nvSpPr>
            <p:cNvPr id="593" name="Freeform 14"/>
            <p:cNvSpPr/>
            <p:nvPr/>
          </p:nvSpPr>
          <p:spPr>
            <a:xfrm>
              <a:off x="6550200" y="85860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8"/>
            <p:cNvSpPr/>
            <p:nvPr/>
          </p:nvSpPr>
          <p:spPr>
            <a:xfrm>
              <a:off x="2836800" y="73152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2"/>
            <p:cNvSpPr/>
            <p:nvPr/>
          </p:nvSpPr>
          <p:spPr>
            <a:xfrm>
              <a:off x="3063960" y="74268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26"/>
            <p:cNvSpPr/>
            <p:nvPr/>
          </p:nvSpPr>
          <p:spPr>
            <a:xfrm>
              <a:off x="6076800" y="73008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0"/>
            <p:cNvSpPr/>
            <p:nvPr/>
          </p:nvSpPr>
          <p:spPr>
            <a:xfrm>
              <a:off x="228600" y="71424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31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EAFA-A9E1-446C-8E91-FD03B64082E2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32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33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3BF6-4794-4A03-A48B-C117F2345D71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ounded Rectangle 14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Group 23"/>
          <p:cNvGrpSpPr/>
          <p:nvPr/>
        </p:nvGrpSpPr>
        <p:grpSpPr>
          <a:xfrm>
            <a:off x="228600" y="714240"/>
            <a:ext cx="9450360" cy="1332000"/>
            <a:chOff x="228600" y="714240"/>
            <a:chExt cx="9450360" cy="1332000"/>
          </a:xfrm>
        </p:grpSpPr>
        <p:sp>
          <p:nvSpPr>
            <p:cNvPr id="641" name="Freeform 14"/>
            <p:cNvSpPr/>
            <p:nvPr/>
          </p:nvSpPr>
          <p:spPr>
            <a:xfrm>
              <a:off x="6559560" y="860040"/>
              <a:ext cx="3119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8"/>
            <p:cNvSpPr/>
            <p:nvPr/>
          </p:nvSpPr>
          <p:spPr>
            <a:xfrm>
              <a:off x="2840040" y="731520"/>
              <a:ext cx="601524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2"/>
            <p:cNvSpPr/>
            <p:nvPr/>
          </p:nvSpPr>
          <p:spPr>
            <a:xfrm>
              <a:off x="3066840" y="742680"/>
              <a:ext cx="59310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6"/>
            <p:cNvSpPr/>
            <p:nvPr/>
          </p:nvSpPr>
          <p:spPr>
            <a:xfrm>
              <a:off x="6083280" y="730080"/>
              <a:ext cx="358920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8"/>
            <p:cNvSpPr/>
            <p:nvPr/>
          </p:nvSpPr>
          <p:spPr>
            <a:xfrm>
              <a:off x="228600" y="714240"/>
              <a:ext cx="94503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34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3D1F-C9E7-489F-A8C9-FE4508CD2B02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35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36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3054-A38B-4269-B6E7-2C872074DD1D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ounded Rectangle 14"/>
          <p:cNvSpPr/>
          <p:nvPr/>
        </p:nvSpPr>
        <p:spPr>
          <a:xfrm>
            <a:off x="247680" y="228600"/>
            <a:ext cx="942012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8"/>
          <p:cNvGrpSpPr/>
          <p:nvPr/>
        </p:nvGrpSpPr>
        <p:grpSpPr>
          <a:xfrm>
            <a:off x="228600" y="5354640"/>
            <a:ext cx="9450360" cy="1330200"/>
            <a:chOff x="228600" y="5354640"/>
            <a:chExt cx="9450360" cy="1330200"/>
          </a:xfrm>
        </p:grpSpPr>
        <p:sp>
          <p:nvSpPr>
            <p:cNvPr id="689" name="Freeform 14"/>
            <p:cNvSpPr/>
            <p:nvPr/>
          </p:nvSpPr>
          <p:spPr>
            <a:xfrm>
              <a:off x="6559560" y="5499000"/>
              <a:ext cx="3119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8"/>
            <p:cNvSpPr/>
            <p:nvPr/>
          </p:nvSpPr>
          <p:spPr>
            <a:xfrm>
              <a:off x="2840040" y="5371920"/>
              <a:ext cx="601524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2"/>
            <p:cNvSpPr/>
            <p:nvPr/>
          </p:nvSpPr>
          <p:spPr>
            <a:xfrm>
              <a:off x="3066840" y="5383080"/>
              <a:ext cx="59310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6"/>
            <p:cNvSpPr/>
            <p:nvPr/>
          </p:nvSpPr>
          <p:spPr>
            <a:xfrm>
              <a:off x="6083280" y="5370480"/>
              <a:ext cx="35892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0"/>
            <p:cNvSpPr/>
            <p:nvPr/>
          </p:nvSpPr>
          <p:spPr>
            <a:xfrm>
              <a:off x="228600" y="5354640"/>
              <a:ext cx="94503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37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FEAC-E1A2-4B6D-87FB-92FFD3F1E9F0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38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39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99ED-B26F-455B-91FC-B0FC063FA2FE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737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40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AF72-358D-4EB8-AF38-A9AB0ED3EF9D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41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42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4518-D77F-438F-A693-6D2C9AC7FB73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ounded Rectangle 20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14"/>
          <p:cNvGrpSpPr/>
          <p:nvPr/>
        </p:nvGrpSpPr>
        <p:grpSpPr>
          <a:xfrm>
            <a:off x="228600" y="714240"/>
            <a:ext cx="9450360" cy="1332000"/>
            <a:chOff x="228600" y="714240"/>
            <a:chExt cx="9450360" cy="1332000"/>
          </a:xfrm>
        </p:grpSpPr>
        <p:sp>
          <p:nvSpPr>
            <p:cNvPr id="785" name="Freeform 14"/>
            <p:cNvSpPr/>
            <p:nvPr/>
          </p:nvSpPr>
          <p:spPr>
            <a:xfrm>
              <a:off x="6559560" y="860040"/>
              <a:ext cx="3119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8"/>
            <p:cNvSpPr/>
            <p:nvPr/>
          </p:nvSpPr>
          <p:spPr>
            <a:xfrm>
              <a:off x="2840040" y="731520"/>
              <a:ext cx="601524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22"/>
            <p:cNvSpPr/>
            <p:nvPr/>
          </p:nvSpPr>
          <p:spPr>
            <a:xfrm>
              <a:off x="3066840" y="742680"/>
              <a:ext cx="59310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26"/>
            <p:cNvSpPr/>
            <p:nvPr/>
          </p:nvSpPr>
          <p:spPr>
            <a:xfrm>
              <a:off x="6083280" y="730080"/>
              <a:ext cx="358920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9"/>
            <p:cNvSpPr/>
            <p:nvPr/>
          </p:nvSpPr>
          <p:spPr>
            <a:xfrm>
              <a:off x="228600" y="714240"/>
              <a:ext cx="94503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4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C151-8FAE-4354-8A34-E343E5D818E2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4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4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717F-9AA8-4F48-86EF-9ACC6D764E34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prezentacja_podtytul"/>
          <p:cNvPicPr/>
          <p:nvPr/>
        </p:nvPicPr>
        <p:blipFill>
          <a:blip r:embed="rId2"/>
          <a:stretch/>
        </p:blipFill>
        <p:spPr>
          <a:xfrm>
            <a:off x="-203040" y="-139680"/>
            <a:ext cx="10312200" cy="7137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639800" y="1600200"/>
            <a:ext cx="77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84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6072-6E1A-483C-8EC6-7E4EA7074D6E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Komponent Central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C5CC-1172-4594-9E8D-E9B1DBFA17AF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32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prezentacja_podtytul"/>
          <p:cNvPicPr/>
          <p:nvPr/>
        </p:nvPicPr>
        <p:blipFill>
          <a:blip r:embed="rId5"/>
          <a:stretch/>
        </p:blipFill>
        <p:spPr>
          <a:xfrm>
            <a:off x="-203040" y="-139680"/>
            <a:ext cx="10312200" cy="7137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74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prezentacja_tytul"/>
          <p:cNvPicPr/>
          <p:nvPr/>
        </p:nvPicPr>
        <p:blipFill>
          <a:blip r:embed="rId5"/>
          <a:stretch/>
        </p:blipFill>
        <p:spPr>
          <a:xfrm>
            <a:off x="0" y="1440"/>
            <a:ext cx="9906120" cy="6855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znak_KAPITAL_LUDZKI"/>
          <p:cNvPicPr/>
          <p:nvPr/>
        </p:nvPicPr>
        <p:blipFill>
          <a:blip r:embed="rId6"/>
          <a:stretch/>
        </p:blipFill>
        <p:spPr>
          <a:xfrm>
            <a:off x="2143080" y="4716360"/>
            <a:ext cx="3457800" cy="1683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6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7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8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20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ftr" idx="9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0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63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ftr" idx="1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ounded Rectangle 15"/>
          <p:cNvSpPr/>
          <p:nvPr/>
        </p:nvSpPr>
        <p:spPr>
          <a:xfrm>
            <a:off x="247680" y="228600"/>
            <a:ext cx="942012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9"/>
          <p:cNvGrpSpPr/>
          <p:nvPr/>
        </p:nvGrpSpPr>
        <p:grpSpPr>
          <a:xfrm>
            <a:off x="228600" y="5354640"/>
            <a:ext cx="9450360" cy="1330200"/>
            <a:chOff x="228600" y="5354640"/>
            <a:chExt cx="9450360" cy="1330200"/>
          </a:xfrm>
        </p:grpSpPr>
        <p:sp>
          <p:nvSpPr>
            <p:cNvPr id="306" name="Freeform 14"/>
            <p:cNvSpPr/>
            <p:nvPr/>
          </p:nvSpPr>
          <p:spPr>
            <a:xfrm>
              <a:off x="6559560" y="5499000"/>
              <a:ext cx="3119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"/>
            <p:cNvSpPr/>
            <p:nvPr/>
          </p:nvSpPr>
          <p:spPr>
            <a:xfrm>
              <a:off x="2840040" y="5371920"/>
              <a:ext cx="601524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2"/>
            <p:cNvSpPr/>
            <p:nvPr/>
          </p:nvSpPr>
          <p:spPr>
            <a:xfrm>
              <a:off x="3066840" y="5383080"/>
              <a:ext cx="59310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6"/>
            <p:cNvSpPr/>
            <p:nvPr/>
          </p:nvSpPr>
          <p:spPr>
            <a:xfrm>
              <a:off x="6083280" y="5370480"/>
              <a:ext cx="35892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0"/>
            <p:cNvSpPr/>
            <p:nvPr/>
          </p:nvSpPr>
          <p:spPr>
            <a:xfrm>
              <a:off x="228600" y="5354640"/>
              <a:ext cx="94503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23CD-382E-4034-9B26-8F84081ADA10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1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1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7B7E-3EE7-4E40-BB5D-7F2F9D728DDA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354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16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DDF5-9E34-41AB-98AC-4063A63EC939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17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18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198D-9AC7-4D82-BDC6-6AFE013A8847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sip.legalis.pl/document-view.seam?documentId=mfrxilrtge2tqmrtgu2tsltqmfyc4mzrga2dqnbwgm" TargetMode="External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9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9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9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9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9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9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9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9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9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9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9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9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9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72880" y="259920"/>
            <a:ext cx="9360000" cy="597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pl-PL" sz="4400" spc="-1" strike="noStrike">
                <a:solidFill>
                  <a:srgbClr val="ffffff"/>
                </a:solidFill>
                <a:latin typeface="Candara"/>
              </a:rPr>
              <a:t>Kontraktowanie</a:t>
            </a:r>
            <a:br>
              <a:rPr sz="4400"/>
            </a:br>
            <a:r>
              <a:rPr b="1" lang="pl-PL" sz="4400" spc="-1" strike="noStrike">
                <a:solidFill>
                  <a:srgbClr val="ffffff"/>
                </a:solidFill>
                <a:latin typeface="Candara"/>
              </a:rPr>
              <a:t>świadczeń opieki zdrowotnej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pl-PL" sz="4400" spc="-1" strike="noStrike">
                <a:solidFill>
                  <a:srgbClr val="ff0000"/>
                </a:solidFill>
                <a:latin typeface="Candara"/>
              </a:rPr>
              <a:t>KRYTERIA OCENY OFERT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 txBox="1"/>
          <p:nvPr/>
        </p:nvSpPr>
        <p:spPr>
          <a:xfrm>
            <a:off x="415800" y="1052280"/>
            <a:ext cx="9074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§ 2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Użyte w rozporządzeniu określenia oznaczają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10)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lokalizacja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 - budynek lub zespół budynków oznaczonych tym samym adresem </a:t>
            </a:r>
            <a:br>
              <a:rPr sz="2000"/>
            </a:b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albo oznaczonych innymi adresami, ale położonych obok siebie i tworzących funkcjonalną całość, w których jest zlokalizowane miejsce udzielania świadczeń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11)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miejsce udzielania świadczeń 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- pomieszczenie lub zespół pomieszczeń w tej samej lokalizacji, powiązanych funkcjonalnie i organizacyjnie w celu wykonywania świadczeń gwarantowanych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415800" y="1052280"/>
            <a:ext cx="9074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§ 5 ust. 1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Oferent, który deklaruje spełnianie warunku podlegającego ocenie, jest obowiązany </a:t>
            </a:r>
            <a:br>
              <a:rPr sz="2000"/>
            </a:b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go spełniać 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w okresie związania ofertą 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oraz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przez cały okres realizacji umowy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, </a:t>
            </a:r>
            <a:br>
              <a:rPr sz="2000"/>
            </a:b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chyba że przepisy rozporządzenia stanowią inaczej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§ 5 ust. 2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2862aa"/>
                </a:solidFill>
                <a:uFillTx/>
                <a:latin typeface="Times New Roman"/>
              </a:rPr>
              <a:t>Oferent, który zadeklarował spełnianie określonego warunku podlegającego ocenie, jest obowiązany go spełniać </a:t>
            </a:r>
            <a:r>
              <a:rPr b="1" lang="pl-PL" sz="2400" spc="-1" strike="noStrike" u="sng">
                <a:solidFill>
                  <a:srgbClr val="ff0000"/>
                </a:solidFill>
                <a:uFillTx/>
                <a:latin typeface="Times New Roman"/>
              </a:rPr>
              <a:t>dodatkowo ponad</a:t>
            </a:r>
            <a:r>
              <a:rPr b="0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pl-PL" sz="2400" spc="-1" strike="noStrike" u="sng">
                <a:solidFill>
                  <a:srgbClr val="2862aa"/>
                </a:solidFill>
                <a:uFillTx/>
                <a:latin typeface="Times New Roman"/>
              </a:rPr>
              <a:t>warunki realizacji świadczeń określone w rozporządzeniach wydanych na podstawie art. 31d ustawy o świadczeniach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 txBox="1"/>
          <p:nvPr/>
        </p:nvSpPr>
        <p:spPr>
          <a:xfrm>
            <a:off x="272880" y="620280"/>
            <a:ext cx="9360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§ 6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1) certyfikat ma zastosowanie w przedmiocie postępowania, na który złożono ofertę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2) certyfikat obejmuje miejsce udzielania świadczeń wskazane w ofercie, a w przypadku dysponenta zespołów ratownictwa medycznego - miejsce stacjonowania zespołów ratownictwa medycznego wskazane w oferci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3)  certyfikat jest wydany przez jednostkę certyfikującą systemy zarządzania posiadającą akredytację udzieloną przez Polskie Centrum Akredytacji lub przez jednostkę akredytującą będącą sygnatariuszem porozumienia o wzajemnym uznawaniu </a:t>
            </a:r>
            <a:br>
              <a:rPr sz="2000"/>
            </a:b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„EA Multilateral Agreement” i jest opatrzony symbolem akredytacji jednostki akredytującej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4) certyfikat jest wydany w zakresie systemów zarządzania: ISO 9001, ISO/IEC 27001, ISO 17025 lub 15189 - zgodnie z ich przyporządkowaniem do poszczególnych zakresów świadczeń wynikającym z załączników do rozporządzenia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5) akredytacja, o której mowa w pkt 3, obejmuje certyfikację systemów zarządzania wymienionych w pkt 4 oraz jest wydana w zakresie usług medycznych (branża „Zdrowie i opieka społeczna” zgodnie z kodem 38 EA, w przypadku: ISO 9001, ISO 14001, </a:t>
            </a:r>
            <a:br>
              <a:rPr sz="2000"/>
            </a:b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PN-N 18001 lub OHSAS 18001)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 txBox="1"/>
          <p:nvPr/>
        </p:nvSpPr>
        <p:spPr>
          <a:xfrm>
            <a:off x="415440" y="620640"/>
            <a:ext cx="9001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§ 7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Kryterium wpisu do rejestru jest spełnione, jeżeli wpis jest ujawniony w księdze rejestrowej oferenta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§ 8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Kryterium "jakość - wyniki kontroli" jest spełnione, jeżeli nieprawidłowość dotyczy umowy realizowanej w dniu złożenia oferty w ramach danego zakresu świadczeń </a:t>
            </a:r>
            <a:br>
              <a:rPr sz="2000"/>
            </a:b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i w ramach obszaru, którego dotyczy postępowanie, oraz została stwierdzona </a:t>
            </a:r>
            <a:br>
              <a:rPr sz="2000"/>
            </a:b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w postępowaniu kontrolnym zakończonym wystąpieniem pokontrolnym lub w trakcie monitorowania, o którym mowa w art. 107 ust. 5 pkt 12 ustawy o świadczeniach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 txBox="1"/>
          <p:nvPr/>
        </p:nvSpPr>
        <p:spPr>
          <a:xfrm>
            <a:off x="944280" y="1700280"/>
            <a:ext cx="80262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Jakość wyniki kontroli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Przedmiotowe kryterium obejmuje wszystkie kontrole </a:t>
            </a:r>
            <a:br>
              <a:rPr sz="2400"/>
            </a:b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(a nie jedynie ostatnią), dotyczące umowy realizowanej </a:t>
            </a:r>
            <a:br>
              <a:rPr sz="2400"/>
            </a:b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w dniu złożenia oferty w ramach danego zakresu świadczeń i w ramach obszaru, którego dotyczy postępowanie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 txBox="1"/>
          <p:nvPr/>
        </p:nvSpPr>
        <p:spPr>
          <a:xfrm>
            <a:off x="488880" y="620640"/>
            <a:ext cx="9072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§ 9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W przypadku uzyskania jednakowej łącznej oceny oferty przez co najmniej dwóch oferentów kryterium różnicującym oferty stanowi ocena uzyskana w kolejności według następujących kryteriów: </a:t>
            </a: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jakość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, </a:t>
            </a: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kompleksowość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, </a:t>
            </a: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dostępność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, </a:t>
            </a: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ciągłość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 oraz </a:t>
            </a: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cena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 txBox="1"/>
          <p:nvPr/>
        </p:nvSpPr>
        <p:spPr>
          <a:xfrm>
            <a:off x="344520" y="1341000"/>
            <a:ext cx="9145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Świadczenia pielęgnacyjne i opiekuńcze w ramach opieki długoterminowej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– </a:t>
            </a: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świadczenia w pielęgniarskiej opiece długoterminowej domowej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5" name="Picture 2" descr=""/>
          <p:cNvPicPr/>
          <p:nvPr/>
        </p:nvPicPr>
        <p:blipFill>
          <a:blip r:embed="rId1"/>
          <a:stretch/>
        </p:blipFill>
        <p:spPr>
          <a:xfrm>
            <a:off x="933480" y="1341360"/>
            <a:ext cx="811044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6" name=""/>
          <p:cNvGraphicFramePr/>
          <p:nvPr/>
        </p:nvGraphicFramePr>
        <p:xfrm>
          <a:off x="776160" y="2276640"/>
          <a:ext cx="8498160" cy="3097080"/>
        </p:xfrm>
        <a:graphic>
          <a:graphicData uri="http://schemas.openxmlformats.org/drawingml/2006/table">
            <a:tbl>
              <a:tblPr/>
              <a:tblGrid>
                <a:gridCol w="8498160"/>
              </a:tblGrid>
              <a:tr h="309708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eniając przedmiotowy warunek należy brać pod uwagę tylko pielęgniarki z ukończoną specjalizacją lub kursem kwalifikacyjnym we wskazanej dziedzinie pielęgniarstwa, 40% liczone od sumy wykazanego czasu pracy pielęgniarek w oferci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Picture 2" descr=""/>
          <p:cNvPicPr/>
          <p:nvPr/>
        </p:nvPicPr>
        <p:blipFill>
          <a:blip r:embed="rId1"/>
          <a:stretch/>
        </p:blipFill>
        <p:spPr>
          <a:xfrm>
            <a:off x="631800" y="1744560"/>
            <a:ext cx="871380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 txBox="1"/>
          <p:nvPr/>
        </p:nvSpPr>
        <p:spPr>
          <a:xfrm>
            <a:off x="560160" y="1484280"/>
            <a:ext cx="9001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Rozporządzenie Ministra Zdrowia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w sprawie szczegółowych kryteriów wyboru ofert w postępowaniu w sprawie zawarcia umów </a:t>
            </a:r>
            <a:br>
              <a:rPr sz="3200"/>
            </a:b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o udzielanie świadczeń opieki zdrowotnej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z dnia 5 sierpnia 2016 r.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(Dz.U. z 2016 r. poz. 1372)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0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D2CF-6348-4BC2-A6C2-A1D66085E87B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8" name=""/>
          <p:cNvGraphicFramePr/>
          <p:nvPr/>
        </p:nvGraphicFramePr>
        <p:xfrm>
          <a:off x="776160" y="2276640"/>
          <a:ext cx="8498160" cy="3097080"/>
        </p:xfrm>
        <a:graphic>
          <a:graphicData uri="http://schemas.openxmlformats.org/drawingml/2006/table">
            <a:tbl>
              <a:tblPr/>
              <a:tblGrid>
                <a:gridCol w="8498160"/>
              </a:tblGrid>
              <a:tr h="309708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eniając warunek „Pielęgniarki z co najmniej 2-letnim doświadczeniem w udzielaniu świadczeń w warunkach domowych…” – bierze się pod uwagę udokumentowany staż pracy w pielęgniarskiej opiece długoterminowej domowej, podstawowej opiece zdrowotnej (pielęgniarki poz), pracy w domu pomocy społecznej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9" name=""/>
          <p:cNvGraphicFramePr/>
          <p:nvPr/>
        </p:nvGraphicFramePr>
        <p:xfrm>
          <a:off x="776160" y="2276640"/>
          <a:ext cx="8498160" cy="3097080"/>
        </p:xfrm>
        <a:graphic>
          <a:graphicData uri="http://schemas.openxmlformats.org/drawingml/2006/table">
            <a:tbl>
              <a:tblPr/>
              <a:tblGrid>
                <a:gridCol w="8498160"/>
              </a:tblGrid>
              <a:tr h="309708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eniając warunek „Pielęgniarki z co najmniej 3-letnim doświadczeniem w pielęgnacji chorych w warunkach oddziału szpitalnego …” – bierze się pod uwagę udokumentowany staż pracy w warunkach oddziału szpitalnego (bez izby przyjęć, SOR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0" name=""/>
          <p:cNvGraphicFramePr/>
          <p:nvPr/>
        </p:nvGraphicFramePr>
        <p:xfrm>
          <a:off x="776160" y="2276640"/>
          <a:ext cx="8498160" cy="3097080"/>
        </p:xfrm>
        <a:graphic>
          <a:graphicData uri="http://schemas.openxmlformats.org/drawingml/2006/table">
            <a:tbl>
              <a:tblPr/>
              <a:tblGrid>
                <a:gridCol w="8498160"/>
              </a:tblGrid>
              <a:tr h="309708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eniając warunek „Co najmniej 50% pielęgniarek udziela świadczeń w wymiarze równoważnika 1 etatu” – dotyczy liczby pielęgniarek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a nie czasu pracy pielęgniarek) i tylko umów o pracę (wyjątek samozatrudnienie tj. indywidualne, grupowe praktyki pielęgniarskie) należy pamiętać o konieczności spełniania tego warunku przez cały okres obowiązywania umow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1" name="Picture 2" descr=""/>
          <p:cNvPicPr/>
          <p:nvPr/>
        </p:nvPicPr>
        <p:blipFill>
          <a:blip r:embed="rId1"/>
          <a:stretch/>
        </p:blipFill>
        <p:spPr>
          <a:xfrm>
            <a:off x="631800" y="2792520"/>
            <a:ext cx="871380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2" name=""/>
          <p:cNvGraphicFramePr/>
          <p:nvPr/>
        </p:nvGraphicFramePr>
        <p:xfrm>
          <a:off x="776160" y="2276640"/>
          <a:ext cx="8498160" cy="3097080"/>
        </p:xfrm>
        <a:graphic>
          <a:graphicData uri="http://schemas.openxmlformats.org/drawingml/2006/table">
            <a:tbl>
              <a:tblPr/>
              <a:tblGrid>
                <a:gridCol w="8498160"/>
              </a:tblGrid>
              <a:tr h="309708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eniając przedmiotowy warunek należy brać pod uwagę wszystkich świadczeniobiorców, którzy otrzymali ocenę według skali Barthel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5 ze skierowania lub uzyskali taką oceną przynajmniej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 w trakcie pielęgniarskiej opieki długoterminowej domowej i byli objęci taką opieką przez co najmniej 90 dni w okresie ostatnich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miesięcy poprzedzających o 2 miesiące miesiąc, w którym ogłoszono postępowanie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Picture 2" descr=""/>
          <p:cNvPicPr/>
          <p:nvPr/>
        </p:nvPicPr>
        <p:blipFill>
          <a:blip r:embed="rId1"/>
          <a:stretch/>
        </p:blipFill>
        <p:spPr>
          <a:xfrm>
            <a:off x="488880" y="2433600"/>
            <a:ext cx="892800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4" name=""/>
          <p:cNvGraphicFramePr/>
          <p:nvPr/>
        </p:nvGraphicFramePr>
        <p:xfrm>
          <a:off x="488880" y="1484280"/>
          <a:ext cx="8785440" cy="403380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439884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 obliczeń procentowego udziału świadczeniobiorców z oceną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punktów w skali Barthel, należy brać pod uwagę wszystkie osoby objęte pielęgniarską opieką długoterminową domową, które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 załączonej do skierowania karcie oceny lub w trakcie opieki uzyskały przynajmniej raz ocenę 0 punktów w skali Barthel, w stosunku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 wszystkich osób objętych tą formą opieki przez danego świadczeniodawcę. Sformułowanie "objętych opieką w ramach pielęgniarskiej opieki długoterminowej domowej" oznacza zarówno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 osoby , które zostały przyjęte do takiej opieki w badanym okresie czasu, jak i te osoby, które były przyjęte wcześniej, a kontynuowały opiekę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5" name="Picture 2" descr=""/>
          <p:cNvPicPr/>
          <p:nvPr/>
        </p:nvPicPr>
        <p:blipFill>
          <a:blip r:embed="rId1"/>
          <a:stretch/>
        </p:blipFill>
        <p:spPr>
          <a:xfrm>
            <a:off x="488880" y="2701800"/>
            <a:ext cx="8928000" cy="19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6" name=""/>
          <p:cNvGraphicFramePr/>
          <p:nvPr/>
        </p:nvGraphicFramePr>
        <p:xfrm>
          <a:off x="704880" y="1700280"/>
          <a:ext cx="8496360" cy="3384360"/>
        </p:xfrm>
        <a:graphic>
          <a:graphicData uri="http://schemas.openxmlformats.org/drawingml/2006/table">
            <a:tbl>
              <a:tblPr/>
              <a:tblGrid>
                <a:gridCol w="8496360"/>
              </a:tblGrid>
              <a:tr h="33843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da wyliczania jest analogiczna jak w ppkt.1.2 Podstawę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 wyliczenia stanowią wszystkie osoby objęte pielęgniarską opieką długoterminową, które w trakcie opieki przynajmniej raz otrzymały ocenę 5-15 punktów w skali Barthel, w stosunku do wszystkich osób objętych tą formą opieki przez danego świadczeniodawcę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Picture 2" descr=""/>
          <p:cNvPicPr/>
          <p:nvPr/>
        </p:nvPicPr>
        <p:blipFill>
          <a:blip r:embed="rId1"/>
          <a:stretch/>
        </p:blipFill>
        <p:spPr>
          <a:xfrm>
            <a:off x="488880" y="2576520"/>
            <a:ext cx="89280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 txBox="1"/>
          <p:nvPr/>
        </p:nvSpPr>
        <p:spPr>
          <a:xfrm>
            <a:off x="488520" y="1196640"/>
            <a:ext cx="9001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Rozporządzenie określa </a:t>
            </a:r>
            <a:r>
              <a:rPr b="1" lang="pl-PL" sz="3200" spc="-1" strike="noStrike" u="sng">
                <a:solidFill>
                  <a:srgbClr val="ff0000"/>
                </a:solidFill>
                <a:uFillTx/>
                <a:latin typeface="Candara"/>
              </a:rPr>
              <a:t>szczegółowe kryteria wyboru ofert </a:t>
            </a: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w postępowaniu w sprawie zawarcia umów o udzielanie świadczeń opieki zdrowotnej </a:t>
            </a:r>
            <a:r>
              <a:rPr b="1" lang="pl-PL" sz="3200" spc="-1" strike="noStrike" u="sng">
                <a:solidFill>
                  <a:srgbClr val="ff0000"/>
                </a:solidFill>
                <a:uFillTx/>
                <a:latin typeface="Candara"/>
              </a:rPr>
              <a:t>w podziale na poszczególne zakresy lub rodzaje świadczeń opieki zdrowotnej </a:t>
            </a:r>
            <a:br>
              <a:rPr sz="3200"/>
            </a:b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na podstawie </a:t>
            </a:r>
            <a:r>
              <a:rPr b="0" lang="pl-PL" sz="3200" spc="-1" strike="noStrike" u="sng">
                <a:solidFill>
                  <a:srgbClr val="0080ff"/>
                </a:solidFill>
                <a:uFillTx/>
                <a:latin typeface="Candara"/>
                <a:hlinkClick r:id="rId1"/>
              </a:rPr>
              <a:t>art. 148 ust. 3</a:t>
            </a: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 ustawy </a:t>
            </a:r>
            <a:br>
              <a:rPr sz="3200"/>
            </a:b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z dnia 27 sierpnia 2004 r. o świadczeniach opieki zdrowotnej finansowanych ze środków publicznych ( t.j. Dz.U. z 2018 r. poz. 1510)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2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6729-D385-4C29-8E65-ECEEC46B1DA3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8" name=""/>
          <p:cNvGraphicFramePr/>
          <p:nvPr/>
        </p:nvGraphicFramePr>
        <p:xfrm>
          <a:off x="704880" y="1484280"/>
          <a:ext cx="8569440" cy="396072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39607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leży przyjąć, że kryterium jest spełnione, jeżeli dotyczy wszystkich świadczeniobiorców objętych świadczeniami pielęgniarskiej opieki długoterminowej domowej w okresach pomiędzy wszystkimi hospitalizacjami oraz po ich zakończeniu, z wyłączeniem zgonu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b objęcia świadczeniobiorcy inną formą opieki w ramach świadczeń opieki zdrowotnej finansowanych ze środków publicznych. Spełnienie ww. warunku kryterialnych oferent może potwierdzić na podstawie zgromadzonej dokumentacji medycznej. np. w sytuacji gdy pacjent zrezygnuje ze świadczeń pielęgniarskiej opieki długoterminowej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2" descr=""/>
          <p:cNvPicPr/>
          <p:nvPr/>
        </p:nvPicPr>
        <p:blipFill>
          <a:blip r:embed="rId1"/>
          <a:stretch/>
        </p:blipFill>
        <p:spPr>
          <a:xfrm>
            <a:off x="488880" y="3292560"/>
            <a:ext cx="8928000" cy="73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0" name="Picture 2" descr=""/>
          <p:cNvPicPr/>
          <p:nvPr/>
        </p:nvPicPr>
        <p:blipFill>
          <a:blip r:embed="rId1"/>
          <a:stretch/>
        </p:blipFill>
        <p:spPr>
          <a:xfrm>
            <a:off x="704880" y="1197000"/>
            <a:ext cx="82090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1" name="Picture 2" descr=""/>
          <p:cNvPicPr/>
          <p:nvPr/>
        </p:nvPicPr>
        <p:blipFill>
          <a:blip r:embed="rId1"/>
          <a:stretch/>
        </p:blipFill>
        <p:spPr>
          <a:xfrm>
            <a:off x="488880" y="2643120"/>
            <a:ext cx="892800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Picture 2" descr=""/>
          <p:cNvPicPr/>
          <p:nvPr/>
        </p:nvPicPr>
        <p:blipFill>
          <a:blip r:embed="rId1"/>
          <a:stretch/>
        </p:blipFill>
        <p:spPr>
          <a:xfrm>
            <a:off x="488880" y="2492280"/>
            <a:ext cx="8928000" cy="20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3" name="Picture 2" descr=""/>
          <p:cNvPicPr/>
          <p:nvPr/>
        </p:nvPicPr>
        <p:blipFill>
          <a:blip r:embed="rId1"/>
          <a:stretch/>
        </p:blipFill>
        <p:spPr>
          <a:xfrm>
            <a:off x="488880" y="2421000"/>
            <a:ext cx="892800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4" name=""/>
          <p:cNvGraphicFramePr/>
          <p:nvPr/>
        </p:nvGraphicFramePr>
        <p:xfrm>
          <a:off x="776160" y="2205000"/>
          <a:ext cx="8425080" cy="3095640"/>
        </p:xfrm>
        <a:graphic>
          <a:graphicData uri="http://schemas.openxmlformats.org/drawingml/2006/table">
            <a:tbl>
              <a:tblPr/>
              <a:tblGrid>
                <a:gridCol w="8425080"/>
              </a:tblGrid>
              <a:tr h="309564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unek jest spełniony, gdy oferent wg stanu na dzień złożenia oferty udziela świadczeń w ramach zawartej umowy w danym zakresie świadczeń oraz w danym obszarze, na który zostało ogłoszone postępowanie. </a:t>
                      </a:r>
                      <a:r>
                        <a:rPr b="0" lang="pl-PL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otyczy także sytuacji dokonania sukcesji generalnej czy cesji umowy, cesjonariusz (sukcesor) wchodzi w ogół praw i obowiązków wynikających z umowy o udzielanie świadczeń opieki zdrowotnej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5" name="Picture 2" descr=""/>
          <p:cNvPicPr/>
          <p:nvPr/>
        </p:nvPicPr>
        <p:blipFill>
          <a:blip r:embed="rId1"/>
          <a:stretch/>
        </p:blipFill>
        <p:spPr>
          <a:xfrm>
            <a:off x="415800" y="2492280"/>
            <a:ext cx="8928360" cy="18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6" name=""/>
          <p:cNvGraphicFramePr/>
          <p:nvPr/>
        </p:nvGraphicFramePr>
        <p:xfrm>
          <a:off x="776160" y="1773360"/>
          <a:ext cx="8498160" cy="3600360"/>
        </p:xfrm>
        <a:graphic>
          <a:graphicData uri="http://schemas.openxmlformats.org/drawingml/2006/table">
            <a:tbl>
              <a:tblPr/>
              <a:tblGrid>
                <a:gridCol w="8498160"/>
              </a:tblGrid>
              <a:tr h="18907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unek spełniony, gdy oferent wg stanu na dzień złożenia oferty udziela świadczeń w ramach zawartej umowy od 5 lat w danym zakresie świadczeń oraz w danym obszarze, na który zostało ogłoszone postępowanie (komórka organizacyjna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0964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unek spełniony, gdy oferent wg stanu na dzień złożenia oferty udziela świadczeń w ramach zawartej umowy od 10 lat w danym zakresie świadczeń oraz w danym obszarze, na który zostało ogłoszone postępowanie (komórka organizacyjna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Picture 2" descr=""/>
          <p:cNvPicPr/>
          <p:nvPr/>
        </p:nvPicPr>
        <p:blipFill>
          <a:blip r:embed="rId1"/>
          <a:stretch/>
        </p:blipFill>
        <p:spPr>
          <a:xfrm>
            <a:off x="560520" y="2565360"/>
            <a:ext cx="871380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7307-85E6-4ED6-9DEE-773255ED5E8C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Picture 5" descr=""/>
          <p:cNvPicPr/>
          <p:nvPr/>
        </p:nvPicPr>
        <p:blipFill>
          <a:blip r:embed="rId1"/>
          <a:stretch/>
        </p:blipFill>
        <p:spPr>
          <a:xfrm>
            <a:off x="920880" y="1700280"/>
            <a:ext cx="8208720" cy="3989160"/>
          </a:xfrm>
          <a:prstGeom prst="rect">
            <a:avLst/>
          </a:prstGeom>
          <a:ln w="0">
            <a:noFill/>
          </a:ln>
        </p:spPr>
      </p:pic>
      <p:sp>
        <p:nvSpPr>
          <p:cNvPr id="845" name="Strzałka w lewo 1"/>
          <p:cNvSpPr/>
          <p:nvPr/>
        </p:nvSpPr>
        <p:spPr>
          <a:xfrm>
            <a:off x="8481960" y="2433600"/>
            <a:ext cx="1008000" cy="2872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Picture 6" descr=""/>
          <p:cNvPicPr/>
          <p:nvPr/>
        </p:nvPicPr>
        <p:blipFill>
          <a:blip r:embed="rId2"/>
          <a:stretch/>
        </p:blipFill>
        <p:spPr>
          <a:xfrm>
            <a:off x="8459640" y="3573360"/>
            <a:ext cx="1030320" cy="304920"/>
          </a:xfrm>
          <a:prstGeom prst="rect">
            <a:avLst/>
          </a:prstGeom>
          <a:ln w="0">
            <a:noFill/>
          </a:ln>
        </p:spPr>
      </p:pic>
      <p:sp>
        <p:nvSpPr>
          <p:cNvPr id="847" name="Strzałka w lewo 7"/>
          <p:cNvSpPr/>
          <p:nvPr/>
        </p:nvSpPr>
        <p:spPr>
          <a:xfrm>
            <a:off x="8459640" y="4941720"/>
            <a:ext cx="1008360" cy="287640"/>
          </a:xfrm>
          <a:prstGeom prst="leftArrow">
            <a:avLst>
              <a:gd name="adj1" fmla="val 50000"/>
              <a:gd name="adj2" fmla="val 49955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 txBox="1"/>
          <p:nvPr/>
        </p:nvSpPr>
        <p:spPr>
          <a:xfrm>
            <a:off x="344520" y="1341000"/>
            <a:ext cx="9145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Opieka paliatywna i hospicyjn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 – </a:t>
            </a: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świadczenia w hospicjum domowym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9" name="Picture 3" descr=""/>
          <p:cNvPicPr/>
          <p:nvPr/>
        </p:nvPicPr>
        <p:blipFill>
          <a:blip r:embed="rId1"/>
          <a:stretch/>
        </p:blipFill>
        <p:spPr>
          <a:xfrm>
            <a:off x="944640" y="1268280"/>
            <a:ext cx="802620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Picture 2" descr=""/>
          <p:cNvPicPr/>
          <p:nvPr/>
        </p:nvPicPr>
        <p:blipFill>
          <a:blip r:embed="rId1"/>
          <a:stretch/>
        </p:blipFill>
        <p:spPr>
          <a:xfrm>
            <a:off x="560520" y="1557360"/>
            <a:ext cx="841032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1" name="Picture 2" descr=""/>
          <p:cNvPicPr/>
          <p:nvPr/>
        </p:nvPicPr>
        <p:blipFill>
          <a:blip r:embed="rId1"/>
          <a:stretch/>
        </p:blipFill>
        <p:spPr>
          <a:xfrm>
            <a:off x="560520" y="2205000"/>
            <a:ext cx="841032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2" name="Picture 2" descr=""/>
          <p:cNvPicPr/>
          <p:nvPr/>
        </p:nvPicPr>
        <p:blipFill>
          <a:blip r:embed="rId1"/>
          <a:stretch/>
        </p:blipFill>
        <p:spPr>
          <a:xfrm>
            <a:off x="560520" y="1644480"/>
            <a:ext cx="841032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3" name="Picture 2" descr=""/>
          <p:cNvPicPr/>
          <p:nvPr/>
        </p:nvPicPr>
        <p:blipFill>
          <a:blip r:embed="rId1"/>
          <a:stretch/>
        </p:blipFill>
        <p:spPr>
          <a:xfrm>
            <a:off x="560520" y="2276640"/>
            <a:ext cx="856908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4" name="Picture 2" descr=""/>
          <p:cNvPicPr/>
          <p:nvPr/>
        </p:nvPicPr>
        <p:blipFill>
          <a:blip r:embed="rId1"/>
          <a:stretch/>
        </p:blipFill>
        <p:spPr>
          <a:xfrm>
            <a:off x="560520" y="2421000"/>
            <a:ext cx="885636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Picture 2" descr=""/>
          <p:cNvPicPr/>
          <p:nvPr/>
        </p:nvPicPr>
        <p:blipFill>
          <a:blip r:embed="rId1"/>
          <a:stretch/>
        </p:blipFill>
        <p:spPr>
          <a:xfrm>
            <a:off x="560520" y="2421000"/>
            <a:ext cx="841032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 txBox="1"/>
          <p:nvPr/>
        </p:nvSpPr>
        <p:spPr>
          <a:xfrm>
            <a:off x="944280" y="1125360"/>
            <a:ext cx="8026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Candara"/>
              </a:rPr>
              <a:t>Problematyczne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eryfikacja spełnienia warunku w którym występuje pojęcie „świadczeniobiorcy” przez oferentów, którzy nie byli dotychczas stroną umowy zawartej z NFZ (opinia MZ wskazująca na równe traktowanie wszystkich świadczeniodawców ubiegających się o zawarcie umowy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eryfikacja warunków dodatkowo ocenianych powinno być prowadzone w oparciu o dostępne dla NFZ dane, </a:t>
            </a:r>
            <a:br>
              <a:rPr sz="2400"/>
            </a:b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 przypadku danych niedostępnych dla NFZ, oferent który zadeklarował spełnianie określonego warunku, jest zobowiązany go udokumentować. Potwierdzenie jest możliwe w szczególności na podstawie zgromadzonej dokumentacji medycznej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2" descr=""/>
          <p:cNvPicPr/>
          <p:nvPr/>
        </p:nvPicPr>
        <p:blipFill>
          <a:blip r:embed="rId1"/>
          <a:stretch/>
        </p:blipFill>
        <p:spPr>
          <a:xfrm>
            <a:off x="1446120" y="3048120"/>
            <a:ext cx="70167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 txBox="1"/>
          <p:nvPr/>
        </p:nvSpPr>
        <p:spPr>
          <a:xfrm>
            <a:off x="415440" y="1700280"/>
            <a:ext cx="91458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Wyrażenie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„</a:t>
            </a: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12 miesięcy poprzedzających o 2 miesiące miesiąc, </a:t>
            </a:r>
            <a:br>
              <a:rPr sz="2400"/>
            </a:b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w którym ogłoszono postępowanie” np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ogłoszenie postępowania konkursowego w dniu 7 marca 2019 r. wówczas należy brać pod uwagę okres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od 1 stycznia 2018 r. do 31 grudnia 2018 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2"/>
          <p:cNvSpPr/>
          <p:nvPr/>
        </p:nvSpPr>
        <p:spPr>
          <a:xfrm>
            <a:off x="631800" y="2060640"/>
            <a:ext cx="87850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2d83f4"/>
                </a:solidFill>
                <a:latin typeface="Candara"/>
                <a:ea typeface="Arial"/>
              </a:rPr>
              <a:t>Dziękuję za uwagę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2"/>
          <p:cNvSpPr/>
          <p:nvPr/>
        </p:nvSpPr>
        <p:spPr>
          <a:xfrm>
            <a:off x="5240160" y="436572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2"/>
          <p:cNvSpPr/>
          <p:nvPr/>
        </p:nvSpPr>
        <p:spPr>
          <a:xfrm>
            <a:off x="5168880" y="508464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 txBox="1"/>
          <p:nvPr/>
        </p:nvSpPr>
        <p:spPr>
          <a:xfrm>
            <a:off x="452160" y="1484280"/>
            <a:ext cx="90010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09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109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Świadczenia pielęgnacyjne i opiekuńcze </a:t>
            </a:r>
            <a:br>
              <a:rPr sz="3200"/>
            </a:b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w ramach opieki długoterminowej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109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Rozporządzenie Ministra Zdrowia zmieniające rozporządzenie </a:t>
            </a:r>
            <a:br>
              <a:rPr sz="2400"/>
            </a:b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w sprawie szczegółowych kryteriów wyboru ofert </a:t>
            </a:r>
            <a:br>
              <a:rPr sz="2400"/>
            </a:b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w postępowaniu w sprawie zawarcia umów o udzielanie świadczeń opieki zdrowotnej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z dnia 8 lutego 2018 r. (Dz.U. z 2018 r. poz. 385) – </a:t>
            </a:r>
            <a:r>
              <a:rPr b="1" lang="pl-PL" sz="2400" spc="-1" strike="noStrike">
                <a:solidFill>
                  <a:srgbClr val="ff0000"/>
                </a:solidFill>
                <a:latin typeface="Candara"/>
              </a:rPr>
              <a:t>załącznik nr 3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0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6AEA-AADB-4B68-9AE7-4A106B36C200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 txBox="1"/>
          <p:nvPr/>
        </p:nvSpPr>
        <p:spPr>
          <a:xfrm>
            <a:off x="415440" y="1484280"/>
            <a:ext cx="90010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0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Opieka paliatywna i hospicyjna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1087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872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73e87"/>
                </a:solidFill>
                <a:latin typeface="Candara"/>
              </a:rPr>
              <a:t>Rozporządzenie Ministra Zdrowia z dnia 5 sierpnia 2016 r. w sprawie szczegółowych kryteriów wyboru ofert w postępowaniu w sprawie zawarcia umów o udzielanie świadczeń opieki zdrowotnej </a:t>
            </a:r>
            <a:br>
              <a:rPr sz="2200"/>
            </a:br>
            <a:r>
              <a:rPr b="1" lang="pl-PL" sz="2200" spc="-1" strike="noStrike">
                <a:solidFill>
                  <a:srgbClr val="073e87"/>
                </a:solidFill>
                <a:latin typeface="Candara"/>
              </a:rPr>
              <a:t>(Dz.U. z 2016, poz. 1372 z późniejszymi zmianami - w szczególności </a:t>
            </a:r>
            <a:br>
              <a:rPr sz="2200"/>
            </a:br>
            <a:r>
              <a:rPr b="1" lang="pl-PL" sz="2200" spc="-1" strike="noStrike">
                <a:solidFill>
                  <a:srgbClr val="073e87"/>
                </a:solidFill>
                <a:latin typeface="Candara"/>
              </a:rPr>
              <a:t>Dz. U. z 2017 r. poz. 1279)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08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Candara"/>
              </a:rPr>
              <a:t>Załącznik nr 11 </a:t>
            </a:r>
            <a:r>
              <a:rPr b="1" lang="pl-PL" sz="2000" spc="-1" strike="noStrike">
                <a:solidFill>
                  <a:srgbClr val="073e87"/>
                </a:solidFill>
                <a:latin typeface="Candara"/>
              </a:rPr>
              <a:t>–  Wykaz szczegółowych kryteriów wyboru ofert </a:t>
            </a:r>
            <a:br>
              <a:rPr sz="2000"/>
            </a:br>
            <a:r>
              <a:rPr b="1" lang="pl-PL" sz="2000" spc="-1" strike="noStrike">
                <a:solidFill>
                  <a:srgbClr val="073e87"/>
                </a:solidFill>
                <a:latin typeface="Candara"/>
              </a:rPr>
              <a:t>wraz z wyznaczającymi je warunkami oraz przypisaną im wartością w rodzaju </a:t>
            </a:r>
            <a:r>
              <a:rPr b="1" lang="pl-PL" sz="2000" spc="-1" strike="noStrike">
                <a:solidFill>
                  <a:srgbClr val="ff0000"/>
                </a:solidFill>
                <a:latin typeface="Candara"/>
              </a:rPr>
              <a:t>opieka paliatywna i hospicyjna - </a:t>
            </a:r>
            <a:r>
              <a:rPr b="1" lang="pl-PL" sz="2000" spc="-1" strike="noStrike">
                <a:solidFill>
                  <a:srgbClr val="073e87"/>
                </a:solidFill>
                <a:latin typeface="Candara"/>
              </a:rPr>
              <a:t>ze zmianami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2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0685-7AEA-4AE2-AD3C-9355E7C5A0BE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 txBox="1"/>
          <p:nvPr/>
        </p:nvSpPr>
        <p:spPr>
          <a:xfrm>
            <a:off x="848880" y="1773000"/>
            <a:ext cx="828036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Tabela nr 1 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określa warunki dla poszczególnych zakresów świadczeń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Tabela nr 2 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określa warunki wspólne dla całego rodzaju świadczeń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862a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Kryteria wyboru ofer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862a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862aa"/>
                </a:solidFill>
                <a:latin typeface="Times New Roman"/>
              </a:rPr>
              <a:t>jakość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862a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862aa"/>
                </a:solidFill>
                <a:latin typeface="Times New Roman"/>
              </a:rPr>
              <a:t>dostępność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862a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862aa"/>
                </a:solidFill>
                <a:latin typeface="Times New Roman"/>
              </a:rPr>
              <a:t>kompleksowość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862a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862aa"/>
                </a:solidFill>
                <a:latin typeface="Times New Roman"/>
              </a:rPr>
              <a:t>cena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495000" y="2637000"/>
            <a:ext cx="89154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862aa"/>
                </a:solidFill>
                <a:latin typeface="Candara"/>
              </a:rPr>
              <a:t>Oceny ofert, według określonych kryteriów, dokonuje się odrębnie dla każdego oferowanego zakresu świadczeń opieki zdrowotnej w ramach danego postępowania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7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DB42-D562-4602-B414-DFA8DDEEC089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1T20:16:07Z</dcterms:created>
  <dc:creator>katarzyna.wiktorzak</dc:creator>
  <dc:description/>
  <dc:language>en-US</dc:language>
  <cp:lastModifiedBy>Wojciech Mika</cp:lastModifiedBy>
  <cp:lastPrinted>2014-03-13T11:33:09Z</cp:lastPrinted>
  <dcterms:modified xsi:type="dcterms:W3CDTF">2019-03-15T13:18:14Z</dcterms:modified>
  <cp:revision>1282</cp:revision>
  <dc:subject/>
  <dc:title>Slajd 1</dc:title>
</cp:coreProperties>
</file>